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92F3-4DDE-4699-AB82-0EFED49BA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D17F-CD1E-42AB-95CF-AADC16E89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88E4-30D5-41FD-9B7C-E9C519EBC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BCFB-51F5-43F1-A683-F97270489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9807-D838-4A12-8223-0C61C30B4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C5A4-CF91-48F8-8468-56185604B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A6F7-E2B5-48C7-8F66-9AB4A844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68BF-DD83-4D00-9AF6-F1AE798A8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1DA2-6860-4573-84AD-78C043650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5382-E3B7-49FE-9C22-5E126E81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44BF-4DB0-4629-A457-F162A888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C2DB-C834-442A-BA25-1F45BF41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2013A-278E-430B-9EDA-FF2E39D5B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623680" y="4859280"/>
          <a:ext cx="6610320" cy="443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23680" y="4859280"/>
                    <a:ext cx="6610320" cy="44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389880" y="171000"/>
            <a:ext cx="8362440" cy="6046200"/>
            <a:chOff x="389880" y="171000"/>
            <a:chExt cx="8362440" cy="6046200"/>
          </a:xfrm>
        </p:grpSpPr>
        <p:sp>
          <p:nvSpPr>
            <p:cNvPr id="44" name="_s2065"/>
            <p:cNvSpPr/>
            <p:nvPr/>
          </p:nvSpPr>
          <p:spPr>
            <a:xfrm flipV="1">
              <a:off x="4571640" y="1799280"/>
              <a:ext cx="0" cy="81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_s2064"/>
            <p:cNvSpPr/>
            <p:nvPr/>
          </p:nvSpPr>
          <p:spPr>
            <a:xfrm>
              <a:off x="3485880" y="171000"/>
              <a:ext cx="2171160" cy="1628280"/>
            </a:xfrm>
            <a:prstGeom prst="ellips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y are als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mocra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2061"/>
            <p:cNvSpPr/>
            <p:nvPr/>
          </p:nvSpPr>
          <p:spPr>
            <a:xfrm flipV="1">
              <a:off x="5603400" y="2923920"/>
              <a:ext cx="1031400" cy="25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2060"/>
            <p:cNvSpPr/>
            <p:nvPr/>
          </p:nvSpPr>
          <p:spPr>
            <a:xfrm>
              <a:off x="6581160" y="1856880"/>
              <a:ext cx="2171160" cy="16290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y dress normall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ke anybody el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2059"/>
            <p:cNvSpPr/>
            <p:nvPr/>
          </p:nvSpPr>
          <p:spPr>
            <a:xfrm>
              <a:off x="5209560" y="4086000"/>
              <a:ext cx="638280" cy="657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2058"/>
            <p:cNvSpPr/>
            <p:nvPr/>
          </p:nvSpPr>
          <p:spPr>
            <a:xfrm>
              <a:off x="5400360" y="4588200"/>
              <a:ext cx="2171160" cy="16290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y mostl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now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r sellign drug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d a lot o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a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ctivati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2063"/>
            <p:cNvSpPr/>
            <p:nvPr/>
          </p:nvSpPr>
          <p:spPr>
            <a:xfrm flipH="1">
              <a:off x="3298320" y="4086000"/>
              <a:ext cx="633960" cy="657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2062"/>
            <p:cNvSpPr/>
            <p:nvPr/>
          </p:nvSpPr>
          <p:spPr>
            <a:xfrm>
              <a:off x="1571400" y="4588200"/>
              <a:ext cx="2171160" cy="162900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y are democrat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2057"/>
            <p:cNvSpPr/>
            <p:nvPr/>
          </p:nvSpPr>
          <p:spPr>
            <a:xfrm flipH="1" flipV="1">
              <a:off x="2510640" y="2926080"/>
              <a:ext cx="1028520" cy="24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2056"/>
            <p:cNvSpPr/>
            <p:nvPr/>
          </p:nvSpPr>
          <p:spPr>
            <a:xfrm>
              <a:off x="389880" y="1856880"/>
              <a:ext cx="2171160" cy="162900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d some of th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ugs are we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t, coca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2055"/>
            <p:cNvSpPr/>
            <p:nvPr/>
          </p:nvSpPr>
          <p:spPr>
            <a:xfrm>
              <a:off x="3485880" y="2614320"/>
              <a:ext cx="2171160" cy="1628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lomb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19:34:26Z</dcterms:created>
  <dc:creator>teacher</dc:creator>
  <dc:description/>
  <dc:language>en-US</dc:language>
  <cp:lastModifiedBy>teacher</cp:lastModifiedBy>
  <dcterms:modified xsi:type="dcterms:W3CDTF">2010-05-06T19:54:24Z</dcterms:modified>
  <cp:revision>3</cp:revision>
  <dc:subject/>
  <dc:title>Slide 1</dc:title>
</cp:coreProperties>
</file>